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619-D4D8-409B-B8C4-528C040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ACC-3393-4BA6-81B4-B9BAB7FA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89572-EDC2-4484-8B39-3E4E1E1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0F70D-94EC-46B4-8EA8-D0343DC7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3395-EF4C-40B4-9D52-8E82777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A35D7-126D-4F7C-AE3B-8B60EA3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9F7E2-E31C-4A99-A7F2-08A41229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D378E-7F55-43E5-9DCA-02F0952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884BC-CA50-4ED9-916F-F273EF7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7C964-D26A-4CB0-A60F-45FDC061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45426-90E0-4B37-B6A9-72AE0F44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B0724-4209-4E41-A10B-BC486A63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DD1-7EC7-41C8-88C9-4194AE7F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3B8C6-1FD4-4F3C-935A-C826625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7436F-897E-4D6C-B91D-5A5661C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9E136-9388-4CBE-B610-3311798E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7574F-93D9-41B0-B38B-7661F06D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CDCDA-8D92-4061-A30E-2BA9C0E0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F91D9-2120-44AC-8584-89B7FD6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C87EF-1E49-4494-8D22-16612FA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ABB0D-DF34-4209-812A-78DB01E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4BBBB-9D41-47F5-8CF5-672C4BB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52B3-CE58-4DAC-A92F-73D9F12D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5EE-ACC6-44BA-BAB4-61EA65C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6CE28-FFB3-4C8E-B571-FFE88F6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D1C42-289F-4139-9205-B102DE32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79AC-2A6D-4985-8484-DB52C0B4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A781C-96D0-4582-AEE3-D04F172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18FA-41F6-49B9-999E-5B8ECE8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FA45-C03E-4AC8-820C-FD9493DB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8D1D-4016-4A75-90C9-3501BD0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7AEB-2E11-4CBC-AB97-1E2808F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29532-1F51-458D-B9A5-6FF6D84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42ED-A2A7-485D-86F4-1F3919A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65A-F89F-4195-A6F1-761BCFE0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0586E-3384-49D4-8CAA-A61DBD4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562D-CA44-4DE0-9A30-5BC6EF6D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C955-BB99-493B-ADD4-34150DC8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F45DA-82EE-4B81-9C66-C67B4D0B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A0BF6-0AF3-45E7-A42D-5D96AEB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2F6C1-42D0-434C-8BE3-5DCAEFA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39143-5E8D-44D3-A97C-A5ED7EA5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B1058-ADA7-42A6-ABAA-97C6E908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D8972-CD83-44EE-AA27-D893C92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F9F3-503B-458B-B197-D115A65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4EF7-81F6-400E-945A-26E0963D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369C6-3833-4546-88A3-0752356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791D5-58A8-4562-B8C8-96EDC7F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53CE4-26AB-43E9-9E2F-C464BA7B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22421-816E-4C17-8734-B49E6B67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3B55C-E649-45D9-BFA2-1068E7C1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0816A-5D9B-43AE-B74E-0F12F09C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51264-9B21-4C43-A528-AE23F18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8598D-A6D3-4A8B-8B40-7FB45653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6B28A-5915-4415-BF61-D98FE364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5765A-83F3-45C2-B0B3-C2BED16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E12E-4908-4BE7-BFF6-20B95CA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94DE2-5D77-4CA8-A749-70B3DD6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31805-C06D-4B17-8CD9-61760BC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9E55D-9A5C-440F-BF41-80B299D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43A9F-A389-46F9-864E-C72E1C2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62357-CF60-4268-9A41-85E37874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4ABAB-9AEB-4883-A506-742A74E4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4BD46-FE21-4D67-B069-D8DF0A3B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DF2F2-1305-48A3-B42D-698E8399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1A3D0-7A07-476A-860F-F208A13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F6EB2-2302-4E19-B3F3-7A2AF69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B387-389C-433D-B52F-2EE4798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22DBF-B12B-4D11-A464-78E5BFD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F56BC-2F4A-4265-8B87-77B8687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E1499-D4D0-4863-BA69-84EEC38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8F2B0-F589-47DE-B6D3-0E8899D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F1153-AF31-48D8-93B1-78B43B0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5E99F-DA56-4962-8C07-FEEAA8F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22648-2FC2-4FE8-926D-EFEE472B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A448D-4E2B-4E73-9047-3CD700BD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F6BEF-091B-4D10-BE01-B4DE52BE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38311-7AB6-4C02-97AA-0A113766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014D-6ECA-4EF7-84F1-38735E0D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890F4-E81F-4FB4-8733-F2DC648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D264F-1DA5-4AB5-AEB9-6F6B211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0483E-CE3C-4666-9EC8-F16262F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09328-4F35-418E-9FC4-2C3D618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6CD0F-9C4E-49BA-9B5A-09A76158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FA44B-30ED-4173-B903-E023BC8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B0CB0-4A8A-45C1-BA47-9005046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4F229-4906-4B84-93D0-A599008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A4797-FF07-449D-B9F3-54115DDE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76F2C-E81C-474A-986C-4226A8E6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4978-8C96-4F10-99E7-4FC44675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D338D-4D7D-42A6-980D-E34DD3EA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6B9E5-109A-4995-9C14-14BF2946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9E4A7-DAC6-4004-8605-64F678AF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EC31A-33EE-4F12-9894-0ECF5AC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302EC-CB8E-487B-AE1F-6A9F209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B8FC8-FAED-4822-A62E-35DDCB6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A55CD-9EEB-41AA-BE0D-C1E5C86E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D80E2-35A6-430C-8C7C-CDD6BD2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DAFAA-5DA2-4425-A535-13BCF90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7AAD7-2F47-4568-85BE-8D28680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6DAF-25AC-40F5-8D3D-2F66D84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C045B-5E47-4648-916E-EF5CD29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F7F61-F972-4BEA-9F1F-AE8BA011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647C6-F92E-477C-9694-5B035E7B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37B71-E5F0-4CE8-99C7-1B9EE70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1A6A6-7EF6-4B03-969B-504D82C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ABD8B-2756-4959-A0F2-AFEC0F1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F3687-D51A-470E-93A3-AE045A6D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AA557-CDD9-4798-8F3F-CD1B76B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9FBD5-03A4-4A72-A870-4AED0BC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3BC2C-45A0-4138-9DAF-B949985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196-0A20-428B-8051-0B5F2DA2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1E3F-EB74-4B11-BB4A-A97EE83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4AE49-8CB6-4B77-AFFB-E52DDD2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AD22C-6905-4F3B-B5C3-344FEDC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A5C2F-D123-43D9-973F-CA9AD07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D599D-C7C4-4C1C-AAEF-9F78DB2E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E8405-2FAC-4F5B-9734-3B20A205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94DDA-92A9-4D64-BA5D-F07E8E5F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D946E-8F69-48C5-BAB9-3B6F3860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A9E8C-E3A3-4E38-BF9F-E71757B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AE332-4513-4A8B-930C-58E85B1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B01DB-716F-4C80-8DDF-7B031EB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0CE-6CD1-4D8A-866E-41AB427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1B903-2C78-44D1-BA0B-CB72A41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20EA8-054A-4474-9A21-7E18104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FABD7-E187-4435-AA03-76A9E4F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E8C9C-BC25-49FA-9E91-9BA9070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0C1ED-6328-41BB-97FD-92D3AA4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272DE-DA5B-496F-9963-4E44D834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43F9E-B025-4722-B648-26D5CDFC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39D78-7F27-4CD1-9026-63B9F64F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844B6-D55E-4672-ACB4-C933FCA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56300-1112-4B1C-9A0A-C212A003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A2D7-D251-4500-85B2-242C6099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51CE3-B6E0-4E65-83A7-124EFF6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604BD-4B3E-4517-A2EA-4BA13935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78D86-7369-4396-B806-5BA5907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7E338-0686-48D7-8B71-8DFD5A0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CCFC1-00BC-472A-A03D-D74932D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9EEFC-F158-45AE-B5B2-578EDCC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78FB8-293F-4335-97C1-4C4B557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08B02-8976-42E8-80E5-BD8E651C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E83FE-4C5E-4C88-BAB8-EB6129D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14C5C4-B17F-4129-84F5-0E575C65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8D9-F33A-4580-8063-6C124115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58C68-53DF-4E9B-8B88-7763FCF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22112-C7FB-49FB-85D8-DEFC120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A8F56-87DF-4F76-ACAC-327FD36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6930C-35F9-457A-9C0A-130E9896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D02BD-2DCD-4FB1-A4BD-B0CEB434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35D3F-52B8-403C-A271-3BD4C0B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AE920-736D-4C6A-B7B9-ABF128B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A2BC0-2D42-4851-AC91-82568E5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C55EE-F382-4217-B8E2-680F9E1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8E128-6CD4-4E73-A8FA-98811F07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DCED-68BA-4AA1-B0BA-4E2B6171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69243-5C24-47C4-829F-74F128DC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231CC-0C17-4425-84C8-E27EDA0A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DC988-DBBD-40F2-99DE-523D9A6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36E45-DCC5-4E6E-8463-3828080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B6E82-D35C-4132-8B45-1580571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FAC3CE-FB68-4AD7-8D3B-04F5D994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441C9-B923-4947-A193-F53EA076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2ECFF-C064-4D17-A959-A8E853C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AA110-5DB7-4FA5-994E-71C8580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C1C50-F2CD-4F7A-B5C4-8DEF69A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93F5-5A05-4D6D-AF36-49448DBC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C0C69-1B6C-4963-8B2C-5CAD261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D8B11-7B73-40A6-8C73-852F8AEA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604BC-462E-4904-996A-20AA1A27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7B2F-2119-48C6-802D-1EB3121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20CB-2F76-495A-8822-7A0623E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F52B-12C2-46D3-A2FD-B2CB620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1E92-898C-4254-81BC-B18F9FB4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33-B3AB-481D-B1D7-A75332B9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5166-A8A9-47F3-8D98-25645C4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8901-0ECA-4882-B7EC-05C223F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BCB8-87D0-443E-A24C-5BDA3CE9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39F0-8044-4862-8E3A-27B6BA9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536B-BBAE-443B-AA8B-BE377B47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48D0-0D6E-4F56-AC44-D1FFA966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3DC7-C456-41A2-87A1-258DD46A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AB55-6B56-4415-895F-462FF42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EEDF-D5E3-4D8E-BB24-CA2616BC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1D27-F5DA-488D-8F41-4F854F1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866-CEA7-4B43-A956-FC2086F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8D45-43A1-478C-85B8-7C6B468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0C73-0542-4566-91A7-87A434EE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5996-F7D9-4A8C-A948-ED7779F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C9AE-FC01-4A3E-89D6-52B06E9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66A9-806F-45A0-AFD5-8295D49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E09C-D487-46AA-9ABB-EA08945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B394-7938-4A44-89BB-3649EEA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9BE4-4023-43A0-9EAA-6D83FEDE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BE3C-636B-4E8F-B258-6B0F4914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9A6D-585E-469B-A923-80A8FD7B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E69-453C-486B-9878-46C863C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2D6E-1054-46EE-B7D6-0C884FA5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C484-7428-4E59-980B-7E6C1E8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0A82-39A3-429F-90D9-16A33DD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9BCB-8453-46C6-A603-53F3430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6CFF-3165-45C9-9514-4D993CC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5EF9-6AD7-4B79-A779-D8625D4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8A21-3611-440A-A92C-02A6556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6D03-CE33-4D1D-87C4-B33B755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4A93-E864-431D-BB3C-BE0DC19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FD78-36E9-4186-A25C-973D9F29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379-D21F-4EEB-86E4-1DBA74A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3267-F0F5-42D5-A93B-B145E956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6883C-8144-4281-8DAB-EEA5098B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D316-7609-41A3-B475-7383579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D45C-A4A1-4B41-A412-30EF591D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578A-1725-4B48-9E23-1631219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4E6C-F494-43ED-AE64-4C7751E5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AD54-147F-421D-8635-EB70453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4C62-55F7-41BA-9BCA-06CF07A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898D-0061-489D-B523-52B7C16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969F-3C16-43ED-8C6D-7EAE715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379-C7A6-4601-A3F1-96CBDF3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E1A4-7A5E-465D-BFFE-C1B39ADA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51DB-F2D8-42AA-A2F5-C5F81FF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5DD1-90D4-4A91-8935-C8043360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D6EA8-ECDB-4A70-B8BC-3DA51F4A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A1BD-B3F4-429C-AE66-34C5F31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54B3-D936-41B9-BDEF-36A0CA8A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32C1-84B1-4736-89FF-B9EC15D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48F76-4078-4426-A289-1471D76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EBE1-01F1-47D0-B7BA-C59BF26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1C2B-8DF7-4724-BD79-F873B17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80E-23BB-48A2-984C-45B0E2B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97FC-2758-4F32-8453-650892E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C2887-E839-4ECF-9710-C0DFA794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A51A3-4A9C-469E-A327-F9DBD1FF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4C40-6252-421C-9591-AD319A2E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612B-6891-406C-9B23-C16EEC4D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A708A-11DE-4143-8C1E-5DB552EB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F833-86DB-4067-B0E8-D81424D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A69E-62BD-40E6-9F19-74C835D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BE0D-D085-4EF6-942F-A6FC039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5BB38-B074-4205-8806-40AEF69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78D-5E07-470A-A310-8C19B8F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7861B-294B-45A3-B3B9-38E7D582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8B154-97D3-46F4-B73A-6A64BA7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7D1F-8E1A-486F-AD9D-CCBB4F2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4C09-0FE6-456E-856E-54353DF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026C-9272-411F-9820-7967242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AC74-DE0F-4F12-AFB4-7367E048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E75F-2E78-428C-A600-188892FE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16673-32B6-4429-A542-D28147E8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EF69C-67E8-46A7-B4ED-D2214E9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E1D02-E8D5-4CE2-BAFB-CE6C4167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85F3-C878-4F6E-A81A-A8C015DD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B765-E8B7-468C-969B-CC529E881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A093-F2A2-4568-A9C2-2379F4A8F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CC13-CD50-4E47-9D75-2296D9949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AD51-A29C-403A-B0E2-C910DEA47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4E60-4945-4AEF-91A4-B8536738A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5BD5-6C43-46CA-B850-7F1D42039A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7EA-E894-4561-8FB4-09AC828128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BD6F-6C43-48F5-9C57-03D4040DE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7EA-9AB5-439E-8152-A3661863B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6C2-A570-42B2-BB7C-A5A5821A54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D1B-974E-47A5-84BA-70C352FD1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24BD-F4D7-43A8-A160-11B3BD8C82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EBB9-1E35-49E5-BE3F-5D9A09A0E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AE3-B3C4-4CD9-8EB9-5B6A4AE47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4AA-063A-4810-BBD2-A132BB882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867-EDC8-428D-A8A5-C6A2B258A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920E-3752-47DC-9FBF-D6484FC7B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E0A-29CA-4654-98AC-0A07778BD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6F71-08C9-4C78-9170-A95E8B587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FC1A-66F9-4B0E-92C5-953353ABE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D57-83F2-4907-A717-0A352BB85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8F71-BF40-4BE2-A24D-081035726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747-D045-48FA-A3BD-129EA3C16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1C44-892A-4659-AC23-62551F076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17A1-8987-4F4E-ACFE-220CCAC6AB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F716-E352-4C5E-AC37-38F1CD5E1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57A-0120-45DE-AFEF-28204192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683-B890-4658-9E03-655B09923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4C4-58F5-48F4-A396-CC54AF017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12F-D6F3-4815-BCC6-49D51C6FE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F31-4007-4545-A367-57C07C86F9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A31-F6E9-45EE-8CD6-F7E9E419B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706F-5391-45D8-A5BB-6BC19779D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CA79-922B-4E0D-AFBD-B50687184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F1FB-36D2-44D6-B073-8267D1C57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0F2-94DB-41AC-9172-D6F260002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B38-2E97-43DC-881F-52DE3CD5D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D7C-3C38-461D-A49E-21CB1450F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1BA-5FFA-40A6-99B7-AC2FB1312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504880" cy="561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880920" y="3133800"/>
            <a:ext cx="7382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371520" y="1147680"/>
            <a:ext cx="8400960" cy="5172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2617920" y="1120680"/>
            <a:ext cx="4572000" cy="4431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2571840" y="2311560"/>
            <a:ext cx="5143320" cy="442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5000760" y="2894040"/>
            <a:ext cx="3714480" cy="442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1857240" y="3475080"/>
            <a:ext cx="235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514440" y="1028880"/>
            <a:ext cx="8115120" cy="5343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4643280" y="357192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3"/>
          <a:stretch/>
        </p:blipFill>
        <p:spPr>
          <a:xfrm>
            <a:off x="4857840" y="4143240"/>
            <a:ext cx="1571400" cy="443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4"/>
          <a:stretch/>
        </p:blipFill>
        <p:spPr>
          <a:xfrm>
            <a:off x="6572160" y="4727520"/>
            <a:ext cx="13575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399960" y="833400"/>
            <a:ext cx="8344080" cy="58006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2"/>
          <a:stretch/>
        </p:blipFill>
        <p:spPr>
          <a:xfrm>
            <a:off x="1643040" y="739800"/>
            <a:ext cx="7072200" cy="4428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3"/>
          <a:stretch/>
        </p:blipFill>
        <p:spPr>
          <a:xfrm>
            <a:off x="1500120" y="1311120"/>
            <a:ext cx="2928960" cy="4431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4"/>
          <a:stretch/>
        </p:blipFill>
        <p:spPr>
          <a:xfrm>
            <a:off x="3214800" y="6097680"/>
            <a:ext cx="4572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08120" y="701640"/>
            <a:ext cx="7624800" cy="6147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5643720" y="2357280"/>
            <a:ext cx="2000160" cy="443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500800" y="4071960"/>
            <a:ext cx="571320" cy="442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6572160" y="5227560"/>
            <a:ext cx="14288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05880" cy="5334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214720" y="280836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3952800" y="280980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5786280" y="278604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7572240" y="28083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192888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3714840" y="3354480"/>
            <a:ext cx="1500120" cy="312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550080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728676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0"/>
          <a:stretch/>
        </p:blipFill>
        <p:spPr>
          <a:xfrm>
            <a:off x="2690640" y="4786200"/>
            <a:ext cx="2143440" cy="311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1"/>
          <a:stretch/>
        </p:blipFill>
        <p:spPr>
          <a:xfrm>
            <a:off x="5857920" y="4786200"/>
            <a:ext cx="2428920" cy="311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2"/>
          <a:stretch/>
        </p:blipFill>
        <p:spPr>
          <a:xfrm>
            <a:off x="2571840" y="5262480"/>
            <a:ext cx="2428920" cy="311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13"/>
          <a:stretch/>
        </p:blipFill>
        <p:spPr>
          <a:xfrm>
            <a:off x="5369040" y="5262480"/>
            <a:ext cx="32860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24000" y="736560"/>
            <a:ext cx="8553240" cy="6077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5929200" y="1322280"/>
            <a:ext cx="571680" cy="311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4119480" y="1690560"/>
            <a:ext cx="571680" cy="312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3881520" y="3821040"/>
            <a:ext cx="1071360" cy="312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3643200" y="4572000"/>
            <a:ext cx="2143080" cy="311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3000240" y="4929120"/>
            <a:ext cx="1285920" cy="311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3394080" y="6024600"/>
            <a:ext cx="1143000" cy="311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6000840" y="398952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9"/>
          <a:stretch/>
        </p:blipFill>
        <p:spPr>
          <a:xfrm>
            <a:off x="7215120" y="3989520"/>
            <a:ext cx="809640" cy="311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0"/>
          <a:stretch/>
        </p:blipFill>
        <p:spPr>
          <a:xfrm>
            <a:off x="6000840" y="472752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1"/>
          <a:stretch/>
        </p:blipFill>
        <p:spPr>
          <a:xfrm>
            <a:off x="7275600" y="473868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12"/>
          <a:stretch/>
        </p:blipFill>
        <p:spPr>
          <a:xfrm>
            <a:off x="7786800" y="5119560"/>
            <a:ext cx="928440" cy="311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13"/>
          <a:stretch/>
        </p:blipFill>
        <p:spPr>
          <a:xfrm>
            <a:off x="6429240" y="5500800"/>
            <a:ext cx="571680" cy="311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4"/>
          <a:stretch/>
        </p:blipFill>
        <p:spPr>
          <a:xfrm>
            <a:off x="7858080" y="5857920"/>
            <a:ext cx="785880" cy="311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5"/>
          <a:stretch/>
        </p:blipFill>
        <p:spPr>
          <a:xfrm>
            <a:off x="6357960" y="6262560"/>
            <a:ext cx="71424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128520" y="1000080"/>
            <a:ext cx="8886960" cy="5524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1000080" y="2227320"/>
            <a:ext cx="3000600" cy="311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1062000" y="2546280"/>
            <a:ext cx="2928960" cy="311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1000080" y="2927520"/>
            <a:ext cx="2928960" cy="312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4214880" y="2357280"/>
            <a:ext cx="2714400" cy="311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4214880" y="2760840"/>
            <a:ext cx="2714400" cy="311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7215120" y="2347920"/>
            <a:ext cx="1571760" cy="311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7215120" y="2747880"/>
            <a:ext cx="1571760" cy="311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8388360" y="463716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0"/>
          <a:stretch/>
        </p:blipFill>
        <p:spPr>
          <a:xfrm>
            <a:off x="8388360" y="5756400"/>
            <a:ext cx="3859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318960" y="873000"/>
            <a:ext cx="8504280" cy="580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7947000" y="21304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7929720" y="62136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409680" y="947880"/>
            <a:ext cx="8324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49200" y="1135080"/>
            <a:ext cx="8447040" cy="52182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7929720" y="113040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7910640" y="347328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2" descr=""/>
          <p:cNvPicPr/>
          <p:nvPr/>
        </p:nvPicPr>
        <p:blipFill>
          <a:blip r:embed="rId1"/>
          <a:stretch/>
        </p:blipFill>
        <p:spPr>
          <a:xfrm>
            <a:off x="343080" y="2009880"/>
            <a:ext cx="8458200" cy="2838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7929720" y="3762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352440" y="914400"/>
            <a:ext cx="8439120" cy="455292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3" descr=""/>
          <p:cNvPicPr/>
          <p:nvPr/>
        </p:nvPicPr>
        <p:blipFill>
          <a:blip r:embed="rId2"/>
          <a:stretch/>
        </p:blipFill>
        <p:spPr>
          <a:xfrm>
            <a:off x="1523880" y="5575320"/>
            <a:ext cx="7267680" cy="1000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3143160" y="2597040"/>
            <a:ext cx="1428840" cy="443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3714840" y="3786120"/>
            <a:ext cx="1714320" cy="4431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1428840" y="4370400"/>
            <a:ext cx="2143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5:1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